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8.png" ContentType="image/png"/>
  <Override PartName="/ppt/media/image5.png" ContentType="image/png"/>
  <Override PartName="/ppt/media/image6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781E-C6E0-456A-916A-06380C6F1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0DF6-46DB-43B3-814B-BDC10AA9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2297-B91C-4DE7-AF3F-E4F2EC6C9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CD5F-B989-4BA5-BCB0-BFF2F231E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B68B-3662-4496-8E1B-DCB9DC164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7022-B6F3-435F-B504-50FEC13D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D840-1400-4DA9-91CC-F9A47E52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A8F2-DBEB-4CC3-A8E8-8C92430D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FAA2-438C-4F31-9BDB-810DE78B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52EE-B3A5-4800-A00B-9BE9A169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8015-2A50-46DA-A6C7-BC87EEDF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39E8-797D-4D79-B61B-CF560A25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07A5-E72A-4A07-8156-698D4B7D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2764-33A2-4493-A513-CF5923E9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67C9-DFBC-4B2F-80B5-48432D52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9DF6-B173-40A1-8056-A3BBA7103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9285-E5AC-43EC-AFC9-C42B496B3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8E8FE0-EC3C-4BB9-9B5D-1E2BA47D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4AAAC2-BFAA-43BE-ABE7-F22F95CE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A26368-58F9-4A3F-9175-D44CFAA6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984835-8558-4DDA-B510-447ECAB8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2966F8-5930-467D-B913-4E267670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B573-FF09-4C8E-9568-54D5EBBE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E55744-98D4-4F92-88D3-238BBEFF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767A4B-9A58-41B4-8FAA-8BBC284F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FD2C86-6C20-4560-B3CC-80E1AA50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3DDFF7-402E-4B2F-AF2B-99CB3902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75A0EF-F071-41B3-AF13-503BA659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954F99-D899-441D-9092-6E76CBF35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3789DF-6E34-4BF8-921C-6DD3F4F8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8A52B-438C-49A2-B487-0D62F775D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4864B-5CEB-46B3-9997-3C2B501B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3C9E6-03DF-43EA-8B36-660C47C2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CADC-D542-4CE9-BC7D-8FB488B2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4FA9C-4E4C-439C-8CA9-833FEE67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D48CE-083D-47F8-9CDF-636D64E7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9A4AD-BEAC-4602-9C36-71CC60CC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3FF1C-63DA-431B-BD20-2C5DB76E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65921-3565-464E-A138-EDB75C99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CEB9D-7060-485D-B9CA-A3BB3CC2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C5F9F-BB66-4DE6-9E11-8A23008E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526A3-19BA-44E0-9DAD-42B88B9A8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2D16B-321E-4BDE-8117-0DAA41770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30AFBC-4092-4377-9B5C-B0EB5F8FD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B55E-2061-411B-B648-84B7FCF9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50CE39-2DD5-4583-9675-5913D52F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98550B-3F40-4248-88B8-8C557839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B044DF-332A-4440-82A9-839CA600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74B418-C28C-432D-AABE-37CF36C2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049123-72AD-46DC-B630-04EF8A0A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44A4C6-E58D-4B6E-B833-0DFF0E00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5E167A-BF22-441F-A3A7-4B5116F6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B5848B-A6FF-482A-AFCD-C6CBED2A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E769F9-75CB-4B4D-BF19-D7543C4C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21997F-DDE9-488F-A1D9-FF3E0FCD3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5761-4412-4900-9D5C-A391ECBF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28566C-9EDD-49E2-A54A-A2B57251E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EA7472-1828-4BF4-9A64-F2AF9D114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036D4C-DA21-4CA6-8734-F1749000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6BF44E-B8A5-4F29-AF3C-521BDAF4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AAAD4A-E6BC-4AA4-8B75-9723ADB7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6C764B-C33C-4543-BF44-326C7C55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288D9B-E395-4D1D-99D3-600DC61D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46128C-4BC2-4860-9439-8BA4BA8C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AD35FA-A859-408C-AA3F-BC157236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75F99C-5B17-4F12-9B8B-658FA470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241B-914B-4A0D-AFE8-4A2BD898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E63E22-0C3D-4B24-8D2F-DF165FC6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2A36DB-0BAB-40E8-8B81-08419C5A8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4F69CF-9EBA-43F6-9430-8209D4838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076D8D-D1C5-4E55-B6B1-1D1261C28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57C4BC-66E0-4433-BD98-10EC05A8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F172FC-8B41-4E79-83D6-2628479E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E057E4-C30C-471C-8EA8-847D14AA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F8B772-B6D0-4E9D-AC0A-AF0172BF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20CE2E-23FD-487F-88BB-361B9A3A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7C8BCE-8E83-4F91-B3FB-09A9A414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270A-9F02-4B0C-A437-8F347EC7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7C984A-14BF-4BF4-AC63-AC51C045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CC893F-8A71-410E-BD80-6E013D1C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712E62-5663-4EBC-BBDF-C00BE980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CC7FE0-0CDC-494A-85F1-BC6556985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F271F9-2B8B-424C-9B10-4AD5469CB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4DEA-0F85-43F1-865A-50302F3D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cap="sq"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B9645D-8A56-4184-BD24-DAC59560EB01}" type="datetime">
              <a:rPr b="0" lang="it-IT" sz="18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8772480" y="2319120"/>
            <a:ext cx="31989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ircolo "AmbienteScienze" - Coordin. "CreaFutturo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cap="sq"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cap="sq"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cap="sq"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6002F1-5244-4FC3-B346-F374F63A27C8}" type="slidenum">
              <a:rPr b="0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cap="sq"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cap="sq"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cap="sq"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cap="sq"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cap="sq"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cap="sq"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9097920" y="222120"/>
            <a:ext cx="228456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575f6d"/>
                </a:solidFill>
                <a:latin typeface="Century Schoolboo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B35A8-5698-41B5-ABBF-9527BC706A29}" type="datetime">
              <a:rPr b="0" lang="it-IT" sz="1200" spc="-1" strike="noStrike">
                <a:solidFill>
                  <a:srgbClr val="575f6d"/>
                </a:solidFill>
                <a:latin typeface="Century Schoolbook"/>
                <a:ea typeface="DejaVu Sans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9097920" y="2544480"/>
            <a:ext cx="365616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575f6d"/>
                </a:solidFill>
                <a:latin typeface="Century Schoolbook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575f6d"/>
                </a:solidFill>
                <a:latin typeface="Century Schoolbook"/>
                <a:ea typeface="DejaVu Sans"/>
              </a:rPr>
              <a:t>Circolo "AmbienteScienze" - Coordin. "CreaFutturo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it-IT" sz="1400" spc="-1" strike="noStrike">
                <a:solidFill>
                  <a:srgbClr val="ffffff"/>
                </a:solidFill>
                <a:latin typeface="Century Schoolbook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6B1F842-DEFB-4612-A349-1F86F66FC670}" type="slidenum">
              <a:rPr b="1" lang="it-IT" sz="1400" spc="-1" strike="noStrike">
                <a:solidFill>
                  <a:srgbClr val="ffffff"/>
                </a:solidFill>
                <a:latin typeface="Century Schoolbook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cap="sq"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cap="sq"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cap="sq"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cap="sq"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575f6d"/>
                </a:solidFill>
                <a:latin typeface="Century Schoolboo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DBBF9C-A67F-4DF0-94E7-91BD53E50D7E}" type="datetime">
              <a:rPr b="0" lang="it-IT" sz="1200" spc="-1" strike="noStrike">
                <a:solidFill>
                  <a:srgbClr val="575f6d"/>
                </a:solidFill>
                <a:latin typeface="Century Schoolbook"/>
                <a:ea typeface="DejaVu Sans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it-IT" sz="1400" spc="-1" strike="noStrike">
                <a:solidFill>
                  <a:srgbClr val="ffffff"/>
                </a:solidFill>
                <a:latin typeface="Century Schoolbook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8D5FF2A-6488-470D-9C3F-4A97715F75F1}" type="slidenum">
              <a:rPr b="1" lang="it-IT" sz="1400" spc="-1" strike="noStrike">
                <a:solidFill>
                  <a:srgbClr val="ffffff"/>
                </a:solidFill>
                <a:latin typeface="Century Schoolbook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>
            <a:off x="8772480" y="2319120"/>
            <a:ext cx="31989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575f6d"/>
                </a:solidFill>
                <a:latin typeface="Century Schoolbook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575f6d"/>
                </a:solidFill>
                <a:latin typeface="Century Schoolbook"/>
                <a:ea typeface="DejaVu Sans"/>
              </a:rPr>
              <a:t>Circolo "AmbienteScienze" - Coordin. "CreaFutturo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cap="sq"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cap="sq"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cap="sq"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cap="sq"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cap="sq"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cap="sq"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9096120" y="217440"/>
            <a:ext cx="228420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fff39d"/>
                </a:solidFill>
                <a:latin typeface="Century Schoolboo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8FAA1-BE3D-495B-A5D0-E7A3F8F6F885}" type="datetime">
              <a:rPr b="0" lang="it-IT" sz="1200" spc="-1" strike="noStrike">
                <a:solidFill>
                  <a:srgbClr val="fff39d"/>
                </a:solidFill>
                <a:latin typeface="Century Schoolbook"/>
                <a:ea typeface="DejaVu Sans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9097920" y="2541240"/>
            <a:ext cx="365616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fff39d"/>
                </a:solidFill>
                <a:latin typeface="Century Schoolbook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39d"/>
                </a:solidFill>
                <a:latin typeface="Century Schoolbook"/>
                <a:ea typeface="DejaVu Sans"/>
              </a:rPr>
              <a:t>Circolo "AmbienteScienze" - Coordin. "CreaFutturo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it-IT" sz="1400" spc="-1" strike="noStrike">
                <a:solidFill>
                  <a:srgbClr val="ffffff"/>
                </a:solidFill>
                <a:latin typeface="Century Schoolbook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EBBD70C-E186-4683-A265-9536F95B818C}" type="slidenum">
              <a:rPr b="1" lang="it-IT" sz="1400" spc="-1" strike="noStrike">
                <a:solidFill>
                  <a:srgbClr val="ffffff"/>
                </a:solidFill>
                <a:latin typeface="Century Schoolbook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cap="sq"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cap="sq"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cap="sq"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cap="sq"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575f6d"/>
                </a:solidFill>
                <a:latin typeface="Century Schoolboo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420A8-6389-4BB1-8A80-9F679583022A}" type="datetime">
              <a:rPr b="0" lang="it-IT" sz="1200" spc="-1" strike="noStrike">
                <a:solidFill>
                  <a:srgbClr val="575f6d"/>
                </a:solidFill>
                <a:latin typeface="Century Schoolbook"/>
                <a:ea typeface="DejaVu Sans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it-IT" sz="1400" spc="-1" strike="noStrike">
                <a:solidFill>
                  <a:srgbClr val="ffffff"/>
                </a:solidFill>
                <a:latin typeface="Century Schoolbook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944F095-6D07-4F50-BD13-CF125D672AAD}" type="slidenum">
              <a:rPr b="1" lang="it-IT" sz="1400" spc="-1" strike="noStrike">
                <a:solidFill>
                  <a:srgbClr val="ffffff"/>
                </a:solidFill>
                <a:latin typeface="Century Schoolbook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>
            <a:off x="8772480" y="2319120"/>
            <a:ext cx="31989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575f6d"/>
                </a:solidFill>
                <a:latin typeface="Century Schoolbook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575f6d"/>
                </a:solidFill>
                <a:latin typeface="Century Schoolbook"/>
                <a:ea typeface="DejaVu Sans"/>
              </a:rPr>
              <a:t>Circolo "AmbienteScienze" - Coordin. "CreaFutturo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cap="sq"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cap="sq"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cap="sq"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cap="sq"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cap="sq"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575f6d"/>
                </a:solidFill>
                <a:latin typeface="Century Schoolboo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B0DBD-8C12-4A10-970C-186CF37CEF3C}" type="datetime">
              <a:rPr b="0" lang="it-IT" sz="1200" spc="-1" strike="noStrike">
                <a:solidFill>
                  <a:srgbClr val="575f6d"/>
                </a:solidFill>
                <a:latin typeface="Century Schoolbook"/>
                <a:ea typeface="DejaVu Sans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it-IT" sz="1400" spc="-1" strike="noStrike">
                <a:solidFill>
                  <a:srgbClr val="ffffff"/>
                </a:solidFill>
                <a:latin typeface="Century Schoolbook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C30FB0E-CBF7-4FD5-B233-68F7482B04AB}" type="slidenum">
              <a:rPr b="1" lang="it-IT" sz="1400" spc="-1" strike="noStrike">
                <a:solidFill>
                  <a:srgbClr val="ffffff"/>
                </a:solidFill>
                <a:latin typeface="Century Schoolbook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>
            <a:off x="8772480" y="2319120"/>
            <a:ext cx="31989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575f6d"/>
                </a:solidFill>
                <a:latin typeface="Century Schoolbook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575f6d"/>
                </a:solidFill>
                <a:latin typeface="Century Schoolbook"/>
                <a:ea typeface="DejaVu Sans"/>
              </a:rPr>
              <a:t>Circolo "AmbienteScienze" - Coordin. "CreaFutturo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cap="sq"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cap="sq"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cap="sq"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cap="sq"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575f6d"/>
                </a:solidFill>
                <a:latin typeface="Century Schoolboo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E74FE-5165-4DC9-9D03-D2DA55AF8512}" type="datetime">
              <a:rPr b="0" lang="it-IT" sz="1200" spc="-1" strike="noStrike">
                <a:solidFill>
                  <a:srgbClr val="575f6d"/>
                </a:solidFill>
                <a:latin typeface="Century Schoolbook"/>
                <a:ea typeface="DejaVu Sans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it-IT" sz="1400" spc="-1" strike="noStrike">
                <a:solidFill>
                  <a:srgbClr val="ffffff"/>
                </a:solidFill>
                <a:latin typeface="Century Schoolbook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E4139EC-816C-4F42-B508-9CE037391DC4}" type="slidenum">
              <a:rPr b="1" lang="it-IT" sz="1400" spc="-1" strike="noStrike">
                <a:solidFill>
                  <a:srgbClr val="ffffff"/>
                </a:solidFill>
                <a:latin typeface="Century Schoolbook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>
            <a:off x="8772480" y="2319120"/>
            <a:ext cx="31989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575f6d"/>
                </a:solidFill>
                <a:latin typeface="Century Schoolbook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575f6d"/>
                </a:solidFill>
                <a:latin typeface="Century Schoolbook"/>
                <a:ea typeface="DejaVu Sans"/>
              </a:rPr>
              <a:t>Circolo "AmbienteScienze" - Coordin. "CreaFutturo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mater.polimi.it/mater/it/chi-siamo/il-nostro-gruppo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aprovinciacr.it/userUpload/studio_LEAP.pdf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A2B8BA-EC1E-4403-8AB5-76C2A06C3962}" type="slidenum">
              <a:rPr b="1" lang="it-IT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5830920" y="2577240"/>
            <a:ext cx="5519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c00000"/>
                </a:solidFill>
                <a:latin typeface="Century Gothic"/>
              </a:rPr>
              <a:t>Circolo "AmbienteScienze" - Coordin. "CreaFutur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60360" y="536400"/>
            <a:ext cx="8353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smissione Inceneritore di Cremon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o Studio Le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871640" y="2303640"/>
            <a:ext cx="5194440" cy="38876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3311640" y="6335640"/>
            <a:ext cx="3141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remona, 23/7/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F254F5-79E7-49AA-AF06-288C1092F04B}" type="slidenum">
              <a:rPr b="1" lang="it-IT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5400000">
            <a:off x="5830920" y="2577240"/>
            <a:ext cx="5519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c00000"/>
                </a:solidFill>
                <a:latin typeface="Century Gothic"/>
              </a:rPr>
              <a:t>Circolo "AmbienteScienze" - Coordin. "CreaFutur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44360" y="777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B. Teleriscaldament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87280" y="1152360"/>
            <a:ext cx="799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ché valutare un nuovo incenerito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ché ha chiesto un'integrazione AEM nel 12/20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ché così gran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coprire il teleriscaldamento con il RUR al 74% (adesso siamo al 34%). In quanto si ipotizza che al 2025 chiuderà la centrale a ciclo combinato che produce elettricità+calore a partire dal meta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7F86BB9-62C9-4B6F-B9C1-C5D7301B6F98}" type="slidenum">
              <a:rPr b="1" lang="it-IT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5400000">
            <a:off x="5830920" y="2577240"/>
            <a:ext cx="5519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c00000"/>
                </a:solidFill>
                <a:latin typeface="Century Gothic"/>
              </a:rPr>
              <a:t>Circolo "AmbienteScienze" - Coordin. "CreaFutur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4360" y="777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B. Teleriscaldament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720720" y="647640"/>
            <a:ext cx="7313760" cy="62103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3240000" y="187164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ecchio Inceneri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384720" y="494028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uovo Inceneri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561779-8208-4D7E-82FC-12BDB094BC6E}" type="slidenum">
              <a:rPr b="1" lang="it-IT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5400000">
            <a:off x="5830920" y="2577240"/>
            <a:ext cx="5519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c00000"/>
                </a:solidFill>
                <a:latin typeface="Century Gothic"/>
              </a:rPr>
              <a:t>Circolo "AmbienteScienze" - Coordin. "CreaFutur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44360" y="777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B. Teleriscaldament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87280" y="1152360"/>
            <a:ext cx="7991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ché non viene valutata anche l'alternativa contraria, cioè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costruire nuove centrali a ciclo combina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? Sono efficienti, redditizie e inquinano molto po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ché non sono state valutate altre alternative richies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696960" y="3944880"/>
            <a:ext cx="7294680" cy="224784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1584360" y="5040360"/>
            <a:ext cx="6335640" cy="792000"/>
          </a:xfrm>
          <a:prstGeom prst="ellipse">
            <a:avLst/>
          </a:prstGeom>
          <a:noFill/>
          <a:ln w="36000">
            <a:solidFill>
              <a:srgbClr val="ff4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CD991B3-15AD-4CD3-83D6-E4CE58FC2FD1}" type="slidenum">
              <a:rPr b="1" lang="it-IT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5830920" y="2577240"/>
            <a:ext cx="5519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c00000"/>
                </a:solidFill>
                <a:latin typeface="Century Gothic"/>
              </a:rPr>
              <a:t>Circolo "AmbienteScienze" - Coordin. "CreaFutur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44360" y="777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C. Smaltimento rifiut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0360" y="86364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anto è il RUR da smaltire al 2020? 34.000t/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cenario TMB: ulteriore separazione e riduzione rifiu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60360" y="62136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duzione al 47%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Riduzione solo al 73,8%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144360" y="2087640"/>
            <a:ext cx="7991640" cy="40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292951-E374-49E0-A49F-62371F9EFFFC}" type="slidenum">
              <a:rPr b="1" lang="it-IT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5400000">
            <a:off x="5830920" y="2577240"/>
            <a:ext cx="5519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c00000"/>
                </a:solidFill>
                <a:latin typeface="Century Gothic"/>
              </a:rPr>
              <a:t>Circolo "AmbienteScienze" - Coordin. "CreaFutur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44360" y="777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Sintesi Incongruen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60360" y="606600"/>
            <a:ext cx="7848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mmedi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TMB in Italia ha tariffe di conferimento inferiori agli inceneritori! Strane conclus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nuovo inceneritore così sovradimensionato nel 2025 non costerebbe 102M€, ma più probabilmente sui 300M€, portando questa ipotesi ad esser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la più ca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croscopich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me fa ad esserci un danno patrimoniale al 2025 se è la data prevista da LGH per la chiusu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ché per il teleriscaldamento non sono state valutate le alternative richieste dal Comune? Neppure quella dei cicli combina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ché si considera una tipologia di TMB che non recupera carta e plastica, e produce solo combustibile per altri inceneritori, cosi inquinando ancora di più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63B415-DAB8-4DF6-BD47-A7A7BC66DDF2}" type="slidenum">
              <a:rPr b="1" lang="it-IT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rot="5400000">
            <a:off x="5830920" y="2577240"/>
            <a:ext cx="5519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c00000"/>
                </a:solidFill>
                <a:latin typeface="Century Gothic"/>
              </a:rPr>
              <a:t>Circolo "AmbienteScienze" - Coordin. "CreaFutur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44360" y="777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(Mi) Studio (la) Lea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60360" y="863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rriviamo all'inizio: chi sono gli au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531720" y="1295280"/>
            <a:ext cx="7532640" cy="534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03906D-FDDE-47C0-BADC-4F0A8EDE96EF}" type="slidenum">
              <a:rPr b="1" lang="it-IT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rot="5400000">
            <a:off x="5830920" y="2577240"/>
            <a:ext cx="5519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c00000"/>
                </a:solidFill>
                <a:latin typeface="Century Gothic"/>
              </a:rPr>
              <a:t>Circolo "AmbienteScienze" - Coordin. "CreaFutur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44360" y="777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(Mi) Studio (la) Lea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60360" y="863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rriviamo all'inizio: chi sono gli au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863640" y="1368360"/>
            <a:ext cx="7265880" cy="51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E51D45-979F-4B5C-8241-DD9CC6E74AB5}" type="slidenum">
              <a:rPr b="1" lang="it-IT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rot="5400000">
            <a:off x="5830920" y="2577240"/>
            <a:ext cx="5519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c00000"/>
                </a:solidFill>
                <a:latin typeface="Century Gothic"/>
              </a:rPr>
              <a:t>Circolo "AmbienteScienze" - Coordin. "CreaFutur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44360" y="777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(Mi) Studio (la) Lea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60360" y="863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rriviamo all'inizio: Direttore, Prof. Stefano Conson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487440" y="1511280"/>
            <a:ext cx="952560" cy="11905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1584360" y="1511280"/>
            <a:ext cx="691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»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Member of the Board of the Municipal Utility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of the city of Piacenza (1995-9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» From 1996 to 1998,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esident of Tecnoborgo, project company for the construction of a 110,000 ton/year Waste-to-Energy plant for the city of Piacenz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511280" y="6335640"/>
            <a:ext cx="623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mater.polimi.it/mater/it/chi-siamo/il-nostro-grup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1461960" y="3348000"/>
            <a:ext cx="5810400" cy="29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E20F5D-1A5F-4DE3-A58D-2F144C6592A3}" type="slidenum">
              <a:rPr b="1" lang="it-IT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5400000">
            <a:off x="5830920" y="2577240"/>
            <a:ext cx="5519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c00000"/>
                </a:solidFill>
                <a:latin typeface="Century Gothic"/>
              </a:rPr>
              <a:t>Circolo "AmbienteScienze" - Coordin. "CreaFutur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44360" y="777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(Mi) Studio (la) Lea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31640" y="3095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ali sono stati criteri di conferimento dello studio? La terzietà fors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31640" y="19098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ali sono state le modalità di conferimento dello studi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31640" y="43592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anto è costato lo studio? (2 fasi, richiesta 2/2014 e 12/201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04A60F-7888-4590-BD09-129B1E5C84E0}" type="slidenum">
              <a:rPr b="1" lang="it-IT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rot="5400000">
            <a:off x="5830920" y="2577240"/>
            <a:ext cx="5519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c00000"/>
                </a:solidFill>
                <a:latin typeface="Century Gothic"/>
              </a:rPr>
              <a:t>Circolo "AmbienteScienze" - Coordin. "CreaFutur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448000" y="3135240"/>
            <a:ext cx="42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per ora, è periodo di ferie..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CC7C8C-003F-45F1-A81D-184F0FC6D669}" type="slidenum">
              <a:rPr b="1" lang="it-IT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rot="5400000">
            <a:off x="5830920" y="2577240"/>
            <a:ext cx="5519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c00000"/>
                </a:solidFill>
                <a:latin typeface="Century Gothic"/>
              </a:rPr>
              <a:t>Circolo "AmbienteScienze" - Coordin. "CreaFutur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44360" y="22068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Incongruenze Studio Lea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60360" y="1184400"/>
            <a:ext cx="784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sclai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ora trattiamo solo la presentazione dello studio Leap che è reperibile pubblicamente a questo indirizz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laprovinciacr.it/userUpload/studio_LEAP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osservazioni saranno quindi limitate ad alcuni aspetti macroscopici, riservando un'analisi più approfondita al rapporto compl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A4E0A9D-D39F-48A2-866D-AA92CD7616BE}" type="slidenum">
              <a:rPr b="1" lang="it-IT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rot="5400000">
            <a:off x="5830920" y="2577240"/>
            <a:ext cx="5519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c00000"/>
                </a:solidFill>
                <a:latin typeface="Century Gothic"/>
              </a:rPr>
              <a:t>Circolo "AmbienteScienze" - Coordin. "CreaFutur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1890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Alternative per gestione dei rifiuti.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2035080" cy="152388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1187280" y="2421000"/>
            <a:ext cx="6639120" cy="409716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700360" y="981000"/>
            <a:ext cx="5040360" cy="11912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840" indent="-14400" algn="ctr">
              <a:tabLst>
                <a:tab algn="l" pos="0"/>
                <a:tab algn="l" pos="1584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opo inceneritore”: fondamentale prevedere quanti rifiuti indifferenziati andranno smalti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6488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onte: annuario statistico regionale: http://www.asr-lombardia.it/ASR/lombardia-e-province/ambiente-e-territorio/produzione-rifiu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A4CEE0-8742-4021-B990-8FD8D4DBDAD7}" type="slidenum">
              <a:rPr b="1" lang="it-IT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rot="5400000">
            <a:off x="5830920" y="2577240"/>
            <a:ext cx="5519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c00000"/>
                </a:solidFill>
                <a:latin typeface="Century Gothic"/>
              </a:rPr>
              <a:t>Circolo "AmbienteScienze" - Coordin. "CreaFutur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1890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Alternative per gestione dei rifiuti.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2035080" cy="152388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2700360" y="1125360"/>
            <a:ext cx="5472000" cy="8254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840" indent="-14400" algn="ctr">
              <a:tabLst>
                <a:tab algn="l" pos="0"/>
                <a:tab algn="l" pos="1584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rattamento Meccanico Biolog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840" indent="-14400" algn="ctr">
              <a:tabLst>
                <a:tab algn="l" pos="0"/>
                <a:tab algn="l" pos="1584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fferenziare ulteriormente il resid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2771640" y="2060640"/>
            <a:ext cx="5375520" cy="189864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755640" y="4838760"/>
            <a:ext cx="3225960" cy="201924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4"/>
          <a:stretch/>
        </p:blipFill>
        <p:spPr>
          <a:xfrm>
            <a:off x="4572000" y="4770360"/>
            <a:ext cx="3297240" cy="208764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324000" y="4292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840" indent="-14400">
              <a:tabLst>
                <a:tab algn="l" pos="0"/>
                <a:tab algn="l" pos="1584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maltimento in discarica paragonabile all’incener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24000" y="393372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840" indent="-14400">
              <a:tabLst>
                <a:tab algn="l" pos="0"/>
                <a:tab algn="l" pos="1584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essuna combustione, emissioni quasi inesisten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A139ED-3BA1-40DB-99C9-62E8E9B384DA}" type="slidenum">
              <a:rPr b="1" lang="it-IT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rot="5400000">
            <a:off x="5830920" y="2577240"/>
            <a:ext cx="5519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c00000"/>
                </a:solidFill>
                <a:latin typeface="Century Gothic"/>
              </a:rPr>
              <a:t>Circolo "AmbienteScienze" - Coordin. "CreaFutur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1890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Alternative per gestione dei rifiuti.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2035080" cy="152388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2700360" y="1125360"/>
            <a:ext cx="5472000" cy="8254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840" indent="-14400" algn="ctr">
              <a:tabLst>
                <a:tab algn="l" pos="0"/>
                <a:tab algn="l" pos="1584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rattamento Meccanico Biolog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840" indent="-14400" algn="ctr">
              <a:tabLst>
                <a:tab algn="l" pos="0"/>
                <a:tab algn="l" pos="1584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fronto con l’incener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539640" y="3068640"/>
            <a:ext cx="3476880" cy="188604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3"/>
          <a:stretch/>
        </p:blipFill>
        <p:spPr>
          <a:xfrm>
            <a:off x="4572000" y="3068640"/>
            <a:ext cx="3774960" cy="185904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539640" y="256536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840" indent="-14400">
              <a:tabLst>
                <a:tab algn="l" pos="0"/>
                <a:tab algn="l" pos="1584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arcellona: Ecoparc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0" y="2565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840" indent="-14400">
              <a:tabLst>
                <a:tab algn="l" pos="0"/>
                <a:tab algn="l" pos="1584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arma: nuovo inceneri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39640" y="501336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840" indent="-14400">
              <a:tabLst>
                <a:tab algn="l" pos="0"/>
                <a:tab algn="l" pos="1584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apacità: 300.000 t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572000" y="5013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840" indent="-14400">
              <a:tabLst>
                <a:tab algn="l" pos="0"/>
                <a:tab algn="l" pos="1584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apacità: 130.000 t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39640" y="558972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840" indent="-14400">
              <a:tabLst>
                <a:tab algn="l" pos="0"/>
                <a:tab algn="l" pos="1584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sto invest.: 52 milioni 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72000" y="5516640"/>
            <a:ext cx="38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840" indent="-14400">
              <a:tabLst>
                <a:tab algn="l" pos="0"/>
                <a:tab algn="l" pos="1584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sto invest.: 195 (315) milioni 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39640" y="6165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840" indent="-14400">
              <a:tabLst>
                <a:tab algn="l" pos="0"/>
                <a:tab algn="l" pos="1584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66 occupati, 4500t/addet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72000" y="6165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840" indent="-14400">
              <a:tabLst>
                <a:tab algn="l" pos="0"/>
                <a:tab algn="l" pos="1584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32 occupati, 4000t/addet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D8D859-EE61-4E46-A28D-5053F16A8A01}" type="slidenum">
              <a:rPr b="1" lang="it-IT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5400000">
            <a:off x="5830920" y="2577240"/>
            <a:ext cx="5519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c00000"/>
                </a:solidFill>
                <a:latin typeface="Century Gothic"/>
              </a:rPr>
              <a:t>Circolo "AmbienteScienze" - Coordin. "CreaFutur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1890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Alternative per gestione dei rifiuti.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2035080" cy="152388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2700360" y="1125360"/>
            <a:ext cx="5472000" cy="8254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840" indent="-14400" algn="ctr">
              <a:tabLst>
                <a:tab algn="l" pos="0"/>
                <a:tab algn="l" pos="1584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rattamento Meccanico Biolog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840" indent="-14400" algn="ctr">
              <a:tabLst>
                <a:tab algn="l" pos="0"/>
                <a:tab algn="l" pos="1584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a  scelta per la sa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11280" y="2565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840" indent="-14400">
              <a:tabLst>
                <a:tab algn="l" pos="0"/>
                <a:tab algn="l" pos="1584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liminazione emissioni di particolato (PM 2,5 e PM1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684360" y="3213000"/>
            <a:ext cx="2286000" cy="120024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3132000" y="328464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840" indent="-14400">
              <a:tabLst>
                <a:tab algn="l" pos="0"/>
                <a:tab algn="l" pos="1584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parirebbe l’inquinamento pari 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utomobili che attraversano Cremona due volte al gi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4360" y="4581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840" indent="-14400">
              <a:tabLst>
                <a:tab algn="l" pos="0"/>
                <a:tab algn="l" pos="1584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liminazione emissioni di Diossine (e PC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84360" y="5084640"/>
            <a:ext cx="7632720" cy="1557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840" indent="-14400">
              <a:tabLst>
                <a:tab algn="l" pos="0"/>
                <a:tab algn="l" pos="1584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attuale impianto di incenerimento è a fine vita, con costi di manutenzione ed adeguamento che lo portano fuori mercato. Per Cremona è tempo di pianificare la gestione dei rifiuti per il prossimo ventenn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55640" y="3284640"/>
            <a:ext cx="2376360" cy="1224000"/>
          </a:xfrm>
          <a:prstGeom prst="line">
            <a:avLst/>
          </a:prstGeom>
          <a:ln cap="sq"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755640" y="3355920"/>
            <a:ext cx="2232000" cy="1154160"/>
          </a:xfrm>
          <a:prstGeom prst="line">
            <a:avLst/>
          </a:prstGeom>
          <a:ln cap="sq"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8AD2DF-CC8C-412D-99CA-FAE85A06631C}" type="slidenum">
              <a:rPr b="1" lang="it-IT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rot="5400000">
            <a:off x="5830920" y="2577240"/>
            <a:ext cx="5519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c00000"/>
                </a:solidFill>
                <a:latin typeface="Century Gothic"/>
              </a:rPr>
              <a:t>Circolo "AmbienteScienze" - Coordin. "CreaFutur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1890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Alternative per gestione dei rifiuti.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2035080" cy="152388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2700360" y="1125360"/>
            <a:ext cx="5472000" cy="8254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840" indent="-14400" algn="ctr">
              <a:tabLst>
                <a:tab algn="l" pos="0"/>
                <a:tab algn="l" pos="1584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rattamento Meccanico Biolog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840" indent="-14400" algn="ctr">
              <a:tabLst>
                <a:tab algn="l" pos="0"/>
                <a:tab algn="l" pos="1584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a  scelta obblig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84360" y="429264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840" indent="-14400">
              <a:tabLst>
                <a:tab algn="l" pos="0"/>
                <a:tab algn="l" pos="1584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rientamento UE al 2020: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“divieto di incenerimento dei rifiuti che possono essere riciclati o compostat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84360" y="256536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840" indent="-14400">
              <a:tabLst>
                <a:tab algn="l" pos="0"/>
                <a:tab algn="l" pos="1584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ariffe di smaltimento medie nazionali(2012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840" indent="-14400">
              <a:tabLst>
                <a:tab algn="l" pos="0"/>
                <a:tab algn="l" pos="1584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scarica: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91,4€/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840" indent="-14400">
              <a:tabLst>
                <a:tab algn="l" pos="0"/>
                <a:tab algn="l" pos="1584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ceneritore: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13,2€/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840" indent="-14400">
              <a:tabLst>
                <a:tab algn="l" pos="0"/>
                <a:tab algn="l" pos="1584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MB: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105,68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€/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55640" y="5661000"/>
            <a:ext cx="7416720" cy="8254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840" indent="-14400">
              <a:tabLst>
                <a:tab algn="l" pos="0"/>
                <a:tab algn="l" pos="1584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arà necessario un Trattamento Meccanico Biologico a monte di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ogn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impianto di incener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8CC197-0CF5-4190-8C1A-980F96DB3D70}" type="slidenum">
              <a:rPr b="1" lang="it-IT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rot="5400000">
            <a:off x="5830920" y="2577240"/>
            <a:ext cx="5519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c00000"/>
                </a:solidFill>
                <a:latin typeface="Century Gothic"/>
              </a:rPr>
              <a:t>Circolo "AmbienteScienze" - Coordin. "CreaFutur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44360" y="777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Incongruenze Studio Lea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60360" y="863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artiamo dalla fine. Le conclusioni: import ed ex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008000" y="1339920"/>
            <a:ext cx="6465960" cy="18288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431640" y="323856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. Export di 34.000t/a di RUR è male (anche se il vecchio inceneritore ne richiede ben 65.000t/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2. Anche con il TMB, se esportiamo poco RUR (17.000t/a) è m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3. Invece costruire un nuovo inceneritore(146.000t/a), due volte e mezzo più grande, ed importare i rifiuti per alimentarlo (112.000t/a) è b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35AAC0-091E-4143-A06E-86A9C9073DA5}" type="slidenum">
              <a:rPr b="1" lang="it-IT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5830920" y="2577240"/>
            <a:ext cx="5519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c00000"/>
                </a:solidFill>
                <a:latin typeface="Century Gothic"/>
              </a:rPr>
              <a:t>Circolo "AmbienteScienze" - Coordin. "CreaFutur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" y="777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Incongruenze Studio Lea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60360" y="863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artiamo dalla fine. Le conclusioni: c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31640" y="374328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4. Chiudere il vecchio inceneritore, nel 2018 o nel 2025, fa perdere una montagna di sold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5. Costruire un TMB da 15M€ ne fa perdere almeno 80M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6. Invece costruire un nuovo inceneritore da 100M€ ci ripaga la chiusura del vecchio e si guadagna p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1068480" y="1368360"/>
            <a:ext cx="692316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E7009F-A1E0-43DC-8892-3AE1EF9B3E82}" type="slidenum">
              <a:rPr b="1" lang="it-IT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rot="5400000">
            <a:off x="5830920" y="2577240"/>
            <a:ext cx="5519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c00000"/>
                </a:solidFill>
                <a:latin typeface="Century Gothic"/>
              </a:rPr>
              <a:t>Circolo "AmbienteScienze" - Coordin. "CreaFutur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44360" y="777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Incongruenze Studio Lea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60360" y="863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artiamo dalla fine. Le conclusioni: emiss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31640" y="374328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7. Chiudere il vecchio inceneritore e mandare via il RUR, oppure costruirne uno nuovo (due volte e mezzo più grande) inquina nello stesso identico mo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8. Ridurre i rifiuti, separando le frazioni recuperabili, invece inquina di pi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863640" y="1468440"/>
            <a:ext cx="6904080" cy="177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31355C-6E45-4E8C-BCEF-8AC1A0A7DD4D}" type="slidenum">
              <a:rPr b="1" lang="it-IT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rot="5400000">
            <a:off x="5830920" y="2577240"/>
            <a:ext cx="5519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c00000"/>
                </a:solidFill>
                <a:latin typeface="Century Gothic"/>
              </a:rPr>
              <a:t>Circolo "AmbienteScienze" - Coordin. "CreaFutur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44360" y="777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Incongruenze immedi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60360" y="9748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TMB davvero non conviene economicamen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1008000" y="1454040"/>
            <a:ext cx="6804000" cy="509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CAF017C-2A1F-4348-9CD6-931797AB6BA7}" type="slidenum">
              <a:rPr b="1" lang="it-IT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rot="5400000">
            <a:off x="5830920" y="2577240"/>
            <a:ext cx="5519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c00000"/>
                </a:solidFill>
                <a:latin typeface="Century Gothic"/>
              </a:rPr>
              <a:t>Circolo "AmbienteScienze" - Coordin. "CreaFutur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44360" y="777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Incongruenze immedia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60360" y="9748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arebbe così conveniente un nuovo incenerito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877160" y="525636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535C101-648F-430A-A7D9-097AB215964C}" type="slidenum">
              <a:rPr b="1" lang="it-IT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4319640" y="2590920"/>
            <a:ext cx="3774960" cy="185868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4319640" y="208764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840" indent="-14400">
              <a:tabLst>
                <a:tab algn="l" pos="0"/>
                <a:tab algn="l" pos="1584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arma: inceneritore (20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319640" y="45356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840" indent="-14400">
              <a:tabLst>
                <a:tab algn="l" pos="0"/>
                <a:tab algn="l" pos="1584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apacità: 130.000 t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319640" y="50385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840" indent="-14400">
              <a:tabLst>
                <a:tab algn="l" pos="0"/>
                <a:tab algn="l" pos="1584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sto invest.: 195 (315) M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844800" y="525636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2D8794-CDA9-49B1-B887-FD9FDCBBC178}" type="slidenum">
              <a:rPr b="1" lang="it-IT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44360" y="208764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840" indent="-14400">
              <a:tabLst>
                <a:tab algn="l" pos="0"/>
                <a:tab algn="l" pos="1584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uovo inceneritore (20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87280" y="45356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840" indent="-14400">
              <a:tabLst>
                <a:tab algn="l" pos="0"/>
                <a:tab algn="l" pos="1584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apacità: 146.000 t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87280" y="5038560"/>
            <a:ext cx="38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840" indent="-14400">
              <a:tabLst>
                <a:tab algn="l" pos="0"/>
                <a:tab algn="l" pos="1584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sto invest.: 102 M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299880" y="2571840"/>
            <a:ext cx="3372120" cy="19638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1728720" y="3224160"/>
            <a:ext cx="144000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6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9F615AD-9A74-4055-A3CF-7466C1CCDD19}" type="slidenum">
              <a:rPr b="1" lang="it-IT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rot="5400000">
            <a:off x="5830920" y="2577240"/>
            <a:ext cx="5519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c00000"/>
                </a:solidFill>
                <a:latin typeface="Century Gothic"/>
              </a:rPr>
              <a:t>Circolo "AmbienteScienze" - Coordin. "CreaFutur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44360" y="777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Incongruenze Macroscopic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60360" y="9748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re punti fondamentali sulla dismissione del vecchio incenerito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31640" y="22320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. Quanto cos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. Come sostituirlo per il Teleriscaldamen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. Come sostituirlo per lo smaltimento del R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B95894-1FDE-412E-8A62-6F0DA369FB33}" type="slidenum">
              <a:rPr b="1" lang="it-IT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5400000">
            <a:off x="5830920" y="2577240"/>
            <a:ext cx="5519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c00000"/>
                </a:solidFill>
                <a:latin typeface="Century Gothic"/>
              </a:rPr>
              <a:t>Circolo "AmbienteScienze" - Coordin. "CreaFutur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44360" y="777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A. Quanto costa la dismissio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60360" y="1079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inalmente escono alcune informazioni riservate di carattere econom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287280" y="2209680"/>
            <a:ext cx="7920000" cy="31892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511280" y="4535640"/>
            <a:ext cx="4535640" cy="792000"/>
          </a:xfrm>
          <a:prstGeom prst="ellipse">
            <a:avLst/>
          </a:prstGeom>
          <a:noFill/>
          <a:ln w="36000">
            <a:solidFill>
              <a:srgbClr val="ff4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0T06:50:58Z</dcterms:created>
  <dc:creator>SETTE</dc:creator>
  <dc:description/>
  <dc:language>en-US</dc:language>
  <cp:lastModifiedBy>Famigghia</cp:lastModifiedBy>
  <dcterms:modified xsi:type="dcterms:W3CDTF">2015-01-24T08:17:10Z</dcterms:modified>
  <cp:revision>36</cp:revision>
  <dc:subject/>
  <dc:title>Cremona -  24 Gennaio 2015</dc:title>
</cp:coreProperties>
</file>